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C83-F533-43AB-9DDE-0B95F521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716-A9AA-49EC-B6C6-F6B721F9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30D-C18F-4AAE-94CE-8422FED9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200-F825-4C19-8108-7DFCC42A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A00-C736-4CDA-85C7-4B0E385C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091-C2D1-4363-8FF0-FB35FFF2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031-A591-4DD8-9FC1-D1ABB3B6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87E-5D9A-4047-9124-6626B1E4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25B-24B4-4817-A5AF-41E73FD7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DA1-0AB5-4B74-A7E1-464A9D0F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399-1BDB-4679-A04A-36016E14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144-7D71-47D4-82FB-A6C31DF6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214D-7381-4268-BDF1-10F203701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742" r="0" b="0"/>
          <a:stretch/>
        </p:blipFill>
        <p:spPr>
          <a:xfrm>
            <a:off x="-3816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320" y="6281640"/>
            <a:ext cx="1981080" cy="500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HelveticaNeueLT Std"/>
              </a:rPr>
              <a:t>SUB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HelveticaNeueLT Std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24480" y="6310440"/>
            <a:ext cx="1219320" cy="420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23268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696080" y="6324480"/>
            <a:ext cx="1295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3:07:35Z</dcterms:created>
  <dc:creator>mkilmurry</dc:creator>
  <dc:description/>
  <dc:language>en-US</dc:language>
  <cp:lastModifiedBy>mkilmurry</cp:lastModifiedBy>
  <dcterms:modified xsi:type="dcterms:W3CDTF">2010-03-24T03:39:02Z</dcterms:modified>
  <cp:revision>2</cp:revision>
  <dc:subject/>
  <dc:title>Slide 1</dc:title>
</cp:coreProperties>
</file>